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40D-ECC2-420C-907F-1577C27B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554-F850-4D63-8115-4A07E3D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01D-62B9-47B7-9B6F-0DBAC74F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90D-74DE-484E-920B-E324ABBA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0CD-B65B-4086-95D1-965D82DE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BC8-CC83-4D07-8C84-D354BB6B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78C-B0EC-40A5-99BA-9FA5ECF3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5CF-9613-452E-B15B-D99D5779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17B-3E6B-4D4D-9661-6F019AA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F29-86F0-497B-8BBE-EAB4B10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83F-432F-4494-BE96-E44AEB66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2E3-22C7-41FE-8FE7-AC4E4CD7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B830-FE75-46E1-9969-7AECA9A89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pskelly</cp:lastModifiedBy>
  <cp:lastPrinted>2001-01-31T16:21:13Z</cp:lastPrinted>
  <dcterms:modified xsi:type="dcterms:W3CDTF">2008-01-30T19:25:38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